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5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Joinks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EDA6-1188-4D56-82FB-B33F15E86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CCC1-8CD0-4A4A-98E3-5EB09EB7F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51E7-E064-4527-B54F-D2C8FABC1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FED1-48D0-4DAA-AE84-7E27D8638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A584-8120-4270-9838-FDD4614F1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2033-6809-4278-B22F-051B1F302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0CA8-EAE2-4407-A01F-89A36853B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468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6858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3700080"/>
            <a:ext cx="6858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5F20-16E0-46C9-9E23-62155CA4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468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3346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66600" y="914040"/>
            <a:ext cx="3346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3700080"/>
            <a:ext cx="3346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66600" y="3700080"/>
            <a:ext cx="3346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02CE-5A43-4859-9DEF-93D247B25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468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220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71040" y="914040"/>
            <a:ext cx="220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89440" y="914040"/>
            <a:ext cx="220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3700080"/>
            <a:ext cx="220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71040" y="3700080"/>
            <a:ext cx="220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89440" y="3700080"/>
            <a:ext cx="220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00AF-EF15-43CC-8C47-21790E1F1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E867-CD56-4D0A-860F-62BB0838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468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280" y="914040"/>
            <a:ext cx="68580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60B8-742F-4273-9E57-60F3BBB6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468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6858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559F-474F-433F-BAB4-D5644B38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468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3346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666600" y="914040"/>
            <a:ext cx="3346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5427-3CF4-4565-B0EA-26A7E7A0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468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E270-34BD-4CF5-A538-6A3216CC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7632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7419-3809-427D-B2F9-BEA4C59F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468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3346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66600" y="914040"/>
            <a:ext cx="3346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280" y="3700080"/>
            <a:ext cx="3346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3925-4CC8-4A2B-9AC6-C4B7826A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468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914040"/>
            <a:ext cx="68580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AC11-BEB2-4EF0-8972-9A677675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468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3346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66600" y="914040"/>
            <a:ext cx="3346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666600" y="3700080"/>
            <a:ext cx="3346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6301-FA9A-47FC-B759-1822461C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468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3346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66600" y="914040"/>
            <a:ext cx="3346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80" y="3700080"/>
            <a:ext cx="6858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81A1-08FF-44B2-9702-C08676ED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468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6858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280" y="3700080"/>
            <a:ext cx="6858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F8EA-1AE6-4227-AF03-52698CB3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468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3346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66600" y="914040"/>
            <a:ext cx="3346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80" y="3700080"/>
            <a:ext cx="3346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666600" y="3700080"/>
            <a:ext cx="3346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E580-F86D-4801-851B-278E0DE7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468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220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71040" y="914040"/>
            <a:ext cx="220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89440" y="914040"/>
            <a:ext cx="220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280" y="3700080"/>
            <a:ext cx="220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71040" y="3700080"/>
            <a:ext cx="220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789440" y="3700080"/>
            <a:ext cx="220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39FD-029C-4E4B-A4D2-6068BA98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468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6858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C23E-38D9-4881-9A6C-A6FDE8A8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468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3346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66600" y="914040"/>
            <a:ext cx="3346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8F7C-1F07-4284-BD9C-6ECCA7ED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468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C7BA-3F29-4B34-8935-3480FC8E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7632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2F15-781A-464F-987D-4C02F591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468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3346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66600" y="914040"/>
            <a:ext cx="3346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3700080"/>
            <a:ext cx="3346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4EE0-9C6C-4E0F-A0E1-B416D25D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468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3346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66600" y="914040"/>
            <a:ext cx="3346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66600" y="3700080"/>
            <a:ext cx="3346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FE89-AD07-4943-BEF7-E3E5C7E2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468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3346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66600" y="914040"/>
            <a:ext cx="3346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3700080"/>
            <a:ext cx="6858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CA30-4725-483E-ADF8-4EF5958D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280" y="914040"/>
            <a:ext cx="6858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Joink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Eras Demi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0090-AC18-4C04-9D95-8F9EBB0A1B23}" type="slidenum">
              <a:rPr b="0" lang="en-US" sz="1200" spc="-1" strike="noStrike">
                <a:solidFill>
                  <a:srgbClr val="ffffff"/>
                </a:solidFill>
                <a:latin typeface="Eras Demi IT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52280" y="914040"/>
            <a:ext cx="6858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Joink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Eras Demi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DE87-D6CF-4D3C-B650-ACF49C858A15}" type="slidenum">
              <a:rPr b="0" lang="en-US" sz="1200" spc="-1" strike="noStrike">
                <a:solidFill>
                  <a:srgbClr val="ffffff"/>
                </a:solidFill>
                <a:latin typeface="Eras Demi IT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4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1981080"/>
            <a:ext cx="3962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omic Sans MS"/>
              </a:rPr>
              <a:t>Holy cow!!</a:t>
            </a:r>
            <a:endParaRPr b="0" lang="en-US" sz="96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-360" y="4266720"/>
            <a:ext cx="44197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You have 5 seconds to answer this question!</a:t>
            </a:r>
            <a:endParaRPr b="0" lang="en-US" sz="3600" spc="-1" strike="noStrike">
              <a:solidFill>
                <a:srgbClr val="000000"/>
              </a:solidFill>
              <a:latin typeface="Eras Demi ITC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2280" y="914040"/>
            <a:ext cx="6096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Eras Demi ITC"/>
            </a:endParaRPr>
          </a:p>
        </p:txBody>
      </p:sp>
      <p:pic>
        <p:nvPicPr>
          <p:cNvPr id="92" name="Picture 10" descr="cartoon_cow_victim_of_tipping_hg_clr"/>
          <p:cNvPicPr/>
          <p:nvPr/>
        </p:nvPicPr>
        <p:blipFill>
          <a:blip r:embed="rId1"/>
          <a:stretch/>
        </p:blipFill>
        <p:spPr>
          <a:xfrm>
            <a:off x="380880" y="4114800"/>
            <a:ext cx="1922760" cy="18572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Clock is Ticking!</a:t>
            </a:r>
            <a:endParaRPr b="0" lang="en-US" sz="3600" spc="-1" strike="noStrike">
              <a:solidFill>
                <a:srgbClr val="ffffff"/>
              </a:solidFill>
              <a:latin typeface="Joinks"/>
            </a:endParaRPr>
          </a:p>
        </p:txBody>
      </p:sp>
    </p:spTree>
  </p:cSld>
  <p:transition advTm="5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51920" y="5562720"/>
            <a:ext cx="441972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wo Minutes</a:t>
            </a:r>
            <a:endParaRPr b="0" lang="en-US" sz="4800" spc="-1" strike="noStrike">
              <a:solidFill>
                <a:srgbClr val="000000"/>
              </a:solidFill>
              <a:latin typeface="Eras Demi ITC"/>
            </a:endParaRPr>
          </a:p>
        </p:txBody>
      </p:sp>
      <p:pic>
        <p:nvPicPr>
          <p:cNvPr id="95" name="Picture 4" descr="cartoon_cow_is_she_dead_hg_clr"/>
          <p:cNvPicPr/>
          <p:nvPr/>
        </p:nvPicPr>
        <p:blipFill>
          <a:blip r:embed="rId1"/>
          <a:stretch/>
        </p:blipFill>
        <p:spPr>
          <a:xfrm>
            <a:off x="0" y="228600"/>
            <a:ext cx="3200400" cy="2835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artoon_cow_female_bucket_stuck_hg_clr"/>
          <p:cNvPicPr/>
          <p:nvPr/>
        </p:nvPicPr>
        <p:blipFill>
          <a:blip r:embed="rId2"/>
          <a:stretch/>
        </p:blipFill>
        <p:spPr>
          <a:xfrm>
            <a:off x="1219320" y="3200400"/>
            <a:ext cx="2590560" cy="1946160"/>
          </a:xfrm>
          <a:prstGeom prst="rect">
            <a:avLst/>
          </a:prstGeom>
          <a:ln w="0">
            <a:noFill/>
          </a:ln>
        </p:spPr>
      </p:pic>
    </p:spTree>
  </p:cSld>
  <p:transition advTm="120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52280" y="914040"/>
            <a:ext cx="56390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It</a:t>
            </a: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s time to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MOOVE</a:t>
            </a: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on to something else!</a:t>
            </a:r>
            <a:endParaRPr b="0" lang="en-US" sz="5400" spc="-1" strike="noStrike">
              <a:solidFill>
                <a:srgbClr val="000000"/>
              </a:solidFill>
              <a:latin typeface="Eras Demi ITC"/>
            </a:endParaRPr>
          </a:p>
        </p:txBody>
      </p:sp>
      <p:pic>
        <p:nvPicPr>
          <p:cNvPr id="98" name="Picture 4" descr="cartoon_cow_female_bucket_stuck_hg_clr"/>
          <p:cNvPicPr/>
          <p:nvPr/>
        </p:nvPicPr>
        <p:blipFill>
          <a:blip r:embed="rId2"/>
          <a:stretch/>
        </p:blipFill>
        <p:spPr>
          <a:xfrm>
            <a:off x="3048120" y="4495680"/>
            <a:ext cx="2609640" cy="1962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cartoon_cow_female_grazing_hg_clr"/>
          <p:cNvPicPr/>
          <p:nvPr/>
        </p:nvPicPr>
        <p:blipFill>
          <a:blip r:embed="rId3"/>
          <a:stretch/>
        </p:blipFill>
        <p:spPr>
          <a:xfrm>
            <a:off x="609480" y="4572000"/>
            <a:ext cx="1935360" cy="1792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76" descr="cartoon_cow_female_bucket_stuck_hg_clr"/>
          <p:cNvPicPr/>
          <p:nvPr/>
        </p:nvPicPr>
        <p:blipFill>
          <a:blip r:embed="rId1"/>
          <a:stretch/>
        </p:blipFill>
        <p:spPr>
          <a:xfrm>
            <a:off x="838080" y="1066680"/>
            <a:ext cx="2610000" cy="1962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77" descr="cartoon_cow_female_grazing_hg_clr"/>
          <p:cNvPicPr/>
          <p:nvPr/>
        </p:nvPicPr>
        <p:blipFill>
          <a:blip r:embed="rId2"/>
          <a:stretch/>
        </p:blipFill>
        <p:spPr>
          <a:xfrm>
            <a:off x="838080" y="3876840"/>
            <a:ext cx="2438640" cy="2259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8" descr="cartoon_cow_female_nervous_look_hg_clr"/>
          <p:cNvPicPr/>
          <p:nvPr/>
        </p:nvPicPr>
        <p:blipFill>
          <a:blip r:embed="rId3"/>
          <a:stretch/>
        </p:blipFill>
        <p:spPr>
          <a:xfrm>
            <a:off x="4114800" y="1171440"/>
            <a:ext cx="2089080" cy="1697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79" descr="cartoon_cow_female_stare_hg_clr"/>
          <p:cNvPicPr/>
          <p:nvPr/>
        </p:nvPicPr>
        <p:blipFill>
          <a:blip r:embed="rId4"/>
          <a:stretch/>
        </p:blipFill>
        <p:spPr>
          <a:xfrm>
            <a:off x="6629400" y="838080"/>
            <a:ext cx="1924200" cy="192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80" descr="cartoon_cow_is_she_dead_hg_clr"/>
          <p:cNvPicPr/>
          <p:nvPr/>
        </p:nvPicPr>
        <p:blipFill>
          <a:blip r:embed="rId5"/>
          <a:stretch/>
        </p:blipFill>
        <p:spPr>
          <a:xfrm>
            <a:off x="4267080" y="3727440"/>
            <a:ext cx="2286000" cy="2025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81" descr="cartoon_cow_victim_of_tipping_hg_clr"/>
          <p:cNvPicPr/>
          <p:nvPr/>
        </p:nvPicPr>
        <p:blipFill>
          <a:blip r:embed="rId6"/>
          <a:stretch/>
        </p:blipFill>
        <p:spPr>
          <a:xfrm>
            <a:off x="6781680" y="3886200"/>
            <a:ext cx="1922760" cy="1857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21:26:38Z</dcterms:created>
  <dc:creator>Cheryl Massengale</dc:creator>
  <dc:description/>
  <dc:language>en-US</dc:language>
  <cp:lastModifiedBy>Microsoft Office User</cp:lastModifiedBy>
  <dcterms:modified xsi:type="dcterms:W3CDTF">2011-09-17T09:39:20Z</dcterms:modified>
  <cp:revision>2</cp:revision>
  <dc:subject/>
  <dc:title>Holy cow!!</dc:title>
</cp:coreProperties>
</file>